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squish1.wav" ContentType="audio/x-wav"/>
  <Override PartName="/ppt/media/image17.png" ContentType="image/png"/>
  <Override PartName="/ppt/media/jungle2.wav" ContentType="audio/x-wav"/>
  <Override PartName="/ppt/media/image20.png" ContentType="image/png"/>
  <Override PartName="/ppt/media/image2.jpeg" ContentType="image/jpeg"/>
  <Override PartName="/ppt/media/image18.png" ContentType="image/png"/>
  <Override PartName="/ppt/media/fly.wav" ContentType="audio/x-wav"/>
  <Override PartName="/ppt/media/image27.png" ContentType="image/png"/>
  <Override PartName="/ppt/media/image16.png" ContentType="image/png"/>
  <Override PartName="/ppt/media/plane.wav" ContentType="audio/x-wav"/>
  <Override PartName="/ppt/media/image3.png" ContentType="image/png"/>
  <Override PartName="/ppt/media/image26.png" ContentType="image/png"/>
  <Override PartName="/ppt/media/bikebell.wav" ContentType="audio/x-wav"/>
  <Override PartName="/ppt/media/image22.png" ContentType="image/png"/>
  <Override PartName="/ppt/media/image23.png" ContentType="image/png"/>
  <Override PartName="/ppt/media/WOLF.WAV" ContentType="audio/x-wav"/>
  <Override PartName="/ppt/media/image24.png" ContentType="image/png"/>
  <Override PartName="/ppt/media/image8.png" ContentType="image/png"/>
  <Override PartName="/ppt/media/prairiedog.wav" ContentType="audio/x-wav"/>
  <Override PartName="/ppt/media/image5.gif" ContentType="image/gif"/>
  <Override PartName="/ppt/media/image28.gif" ContentType="image/gif"/>
  <Override PartName="/ppt/media/image25.png" ContentType="image/png"/>
  <Override PartName="/ppt/media/image29.png" ContentType="image/png"/>
  <Override PartName="/ppt/media/image6.png" ContentType="image/png"/>
  <Override PartName="/ppt/media/mine.wav" ContentType="audio/x-wav"/>
  <Override PartName="/ppt/media/carcrsh.wav" ContentType="audio/x-wav"/>
  <Override PartName="/ppt/media/image7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groan1.wav" ContentType="audio/x-wav"/>
  <Override PartName="/ppt/media/image4.png" ContentType="image/png"/>
  <Override PartName="/ppt/media/image11.png" ContentType="image/png"/>
  <Override PartName="/ppt/media/GIGGLES.wav" ContentType="audio/x-wav"/>
  <Override PartName="/ppt/media/image12.png" ContentType="image/png"/>
  <Override PartName="/ppt/media/image13.png" ContentType="image/png"/>
  <Override PartName="/ppt/media/carhorn2.wav" ContentType="audio/x-wav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68B-8C5C-4867-8DBB-CFEDCE07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EB0A-FB33-46FA-8FE4-26DE5E4A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C83-B5A0-4E7D-9D91-A82C6143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A80-5DDA-4867-A6F7-FBCA2038C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3E7-23DB-4BED-83C1-070D14D9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F64E-1142-4983-82D2-2928F800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BBA-95A4-467B-92C5-D57A17E4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CE7-A6E5-4804-BEEA-C1DDDA94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D9E-B572-4D25-8658-F04C2660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E2A-A578-45CF-9A25-4ED75638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FBE4-8363-4F10-9178-83B74B3E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C63-D051-447B-BB88-7B900818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ED0-1C84-487E-930B-52DB48672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1F29-36B1-4758-87E3-05F82443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48BC-AF01-4ECA-9333-0C284C2D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B761-78BA-4A6D-AB53-6998CB37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F9F8-DDFA-45FA-8195-1C54456B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CAE-7E9A-4885-921D-29B748D6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FFCC-155D-4794-8B14-8C8A2F3B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190-D37A-4CF8-A9A7-EC84D509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237-8E52-46C1-B987-EC97AE2CD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1294-783E-4D2B-8CAB-46722A34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A67-E210-4E37-B699-9664848C8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EE8-1444-47FC-97D9-D780BB8E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655-9152-414A-A266-1527DF37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8B91-CDD9-4CC9-B8A5-F2F31622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CEB-B05E-4BD8-B9E3-7B52DFEF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AFE-B3C3-4658-9C42-C1A141D2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B832-0531-4C6E-92EE-7323A989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397-238A-4ED2-8488-FA51052E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0F73-A962-4B29-AC88-D7F10E43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0B5-BFC9-4C13-A724-8B31DFC7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F66-B5CB-41F2-A94B-CBDDFE08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982-D5F0-42D8-8CF4-8AC7C58E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3FE3-8D23-4F9B-8CCA-4F8CFF46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2DA-09A7-4A40-BF18-59D0C5F0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FD7-3848-461F-93A6-8416C00D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AEB-6467-4CAF-9E98-6F2369B1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739-3437-4497-9BD2-A6BE3E34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0B65-5881-49EF-B613-1B2F573E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FC7-D147-4EFA-A670-1A62B16F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6A1-11F0-4A51-BFF2-CC42880D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4E6-39B3-4019-A4F2-C74D10AF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BAA-E6CC-45AC-80D3-E8B7160D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44F-B340-41FC-9DB3-8128CA36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223-31FE-4D07-B481-58E1DB22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9C8-6DEB-4794-A71F-6894D84A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F14-D4D7-4CD6-A1C2-6F0CEBB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EFF-3FBE-4E44-AA19-38D07BAA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AF6-58EB-4A1C-9781-B02BBAD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8BAD-A66A-4995-94CC-9A338ADB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1CFC-EC91-4C05-B72B-63F310AA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2D40-CD7B-4CAF-932B-FA24C16E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35A-C74E-4B47-862C-37AF3772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A7F2-D6DE-4F45-8F5D-8A9C551E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AEE9-183F-4FA8-8B7D-890674D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F720-172F-4784-8580-A154FCD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979-4EC6-4C5B-9A30-A7848F7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F04-5599-48EE-AA9D-8443FF4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6FED-262C-44C2-81CA-8834A22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279B-7904-4A63-9452-1FD5FEDE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C0D-4CBC-4566-8725-F9273F97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9D3-44EE-451A-900B-3C160162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762-FDCB-485E-B3D0-42CAF65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74F-7329-47D4-B682-8D5C91D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464-E937-40F8-9627-61F4DDD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47E-F69B-441A-B57D-8D9EBF6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61E-5AC6-4FAB-AE57-EDF291E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325-81B1-46AF-9339-29F2DE3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AEE-9DA1-4A9A-8A02-E80EF97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20C-EE9D-4577-9DD1-58F8CB44F0D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723-DD53-4D7C-8740-1B8F7B09AEC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plan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rhorn2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min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bikebe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bikebe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fl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audio" Target="../media/fly.wav"/><Relationship Id="rId7" Type="http://schemas.openxmlformats.org/officeDocument/2006/relationships/audio" Target="../media/fly.wav"/><Relationship Id="rId8" Type="http://schemas.openxmlformats.org/officeDocument/2006/relationships/audio" Target="../media/fly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squish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squish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prairiedo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WOL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IGGL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roan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calgary.ca/UofC/eduweb/grammar/course/speech/1_1c.htm" TargetMode="External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audio" Target="../media/jungle2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Turkey for Thanksgiving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ow pledge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752480" y="380988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BUILD WORDS!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b to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57400" y="3657600"/>
            <a:ext cx="5181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b to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057400" y="3657600"/>
            <a:ext cx="5181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 to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 to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ai to ay and drop th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ai to ay and drop th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ai and a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 to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 to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ont of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a b d i n o r t y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ont of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w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81080" y="3429000"/>
            <a:ext cx="518184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ict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ad Thes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i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861080" y="1660680"/>
            <a:ext cx="2298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z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ch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s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es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-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es buddies hands bunches batches hopes nannies heels ashes boxes ladies bab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es hop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ands heel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WORD THAT 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unches batches ashes box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ORT THE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adies bab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uddies nann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imile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Moose’s smile was as bright as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ey cried like a b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Reading- these words look familia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scared when I got lost in the park and forgot my way back to May’s quaint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ay I shall wait by the sign to watch the birds perch on the bird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wait for the daily train with all th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Reading-these words look familia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I will probably be an artist or ride ho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holidays I bought a purse, a shirt, and a darling sk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ay is pleasant, I sit on the porch before d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at Possessed You?</a:t>
            </a:r>
            <a:endParaRPr b="0" lang="en-US" sz="6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trance"/>
          <p:cNvPicPr/>
          <p:nvPr/>
        </p:nvPicPr>
        <p:blipFill>
          <a:blip r:embed="rId2"/>
          <a:stretch/>
        </p:blipFill>
        <p:spPr>
          <a:xfrm>
            <a:off x="1219320" y="3352680"/>
            <a:ext cx="363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Comic Sans MS"/>
              </a:rPr>
              <a:t>What are nouns?</a:t>
            </a:r>
            <a:endParaRPr b="0" lang="en-US" sz="7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3456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oun is a part of speech that describes a person, place, or 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hair2"/>
          <p:cNvPicPr/>
          <p:nvPr/>
        </p:nvPicPr>
        <p:blipFill>
          <a:blip r:embed="rId2"/>
          <a:stretch/>
        </p:blipFill>
        <p:spPr>
          <a:xfrm>
            <a:off x="5867280" y="4683240"/>
            <a:ext cx="1981440" cy="164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ob_walking"/>
          <p:cNvPicPr/>
          <p:nvPr/>
        </p:nvPicPr>
        <p:blipFill>
          <a:blip r:embed="rId3"/>
          <a:stretch/>
        </p:blipFill>
        <p:spPr>
          <a:xfrm>
            <a:off x="990720" y="4038480"/>
            <a:ext cx="933480" cy="221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ome2level"/>
          <p:cNvPicPr/>
          <p:nvPr/>
        </p:nvPicPr>
        <p:blipFill>
          <a:blip r:embed="rId4"/>
          <a:stretch/>
        </p:blipFill>
        <p:spPr>
          <a:xfrm>
            <a:off x="2590920" y="4038480"/>
            <a:ext cx="2590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What is a possessive noun?</a:t>
            </a:r>
            <a:endParaRPr b="0" lang="en-US" sz="4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ossessive noun is a noun that "owns" something else in the sentenc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mine"/>
          <p:cNvPicPr/>
          <p:nvPr/>
        </p:nvPicPr>
        <p:blipFill>
          <a:blip r:embed="rId2"/>
          <a:stretch/>
        </p:blipFill>
        <p:spPr>
          <a:xfrm>
            <a:off x="5791320" y="4419720"/>
            <a:ext cx="1811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Comic Sans MS"/>
              </a:rPr>
              <a:t>For example:</a:t>
            </a:r>
            <a:endParaRPr b="0" lang="en-US" sz="7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irplane's engine was lou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irplane "owns" the eng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essive nouns are often shown with apostrop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ircrafts022"/>
          <p:cNvPicPr/>
          <p:nvPr/>
        </p:nvPicPr>
        <p:blipFill>
          <a:blip r:embed="rId2"/>
          <a:stretch/>
        </p:blipFill>
        <p:spPr>
          <a:xfrm>
            <a:off x="0" y="990720"/>
            <a:ext cx="142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Can you make this sentence possessive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iguel owns that c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ar-red1"/>
          <p:cNvPicPr/>
          <p:nvPr/>
        </p:nvPicPr>
        <p:blipFill>
          <a:blip r:embed="rId2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give, regret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0512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00"/>
                </a:solidFill>
                <a:latin typeface="Comic Sans MS"/>
              </a:rPr>
              <a:t>Answer</a:t>
            </a:r>
            <a:r>
              <a:rPr b="0" lang="en-US" sz="6000" spc="-1" strike="noStrike">
                <a:solidFill>
                  <a:srgbClr val="9966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at is Miguel</a:t>
            </a: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'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c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ar-red1"/>
          <p:cNvPicPr/>
          <p:nvPr/>
        </p:nvPicPr>
        <p:blipFill>
          <a:blip r:embed="rId2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there is use of a possessive, the question "Who owns it?" can be asked and answe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selfish"/>
          <p:cNvPicPr/>
          <p:nvPr/>
        </p:nvPicPr>
        <p:blipFill>
          <a:blip r:embed="rId2"/>
          <a:stretch/>
        </p:blipFill>
        <p:spPr>
          <a:xfrm>
            <a:off x="6629400" y="4267080"/>
            <a:ext cx="2514600" cy="24163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5"/>
          <p:cNvSpPr/>
          <p:nvPr/>
        </p:nvSpPr>
        <p:spPr>
          <a:xfrm>
            <a:off x="7620120" y="3505320"/>
            <a:ext cx="1523880" cy="914400"/>
          </a:xfrm>
          <a:prstGeom prst="wedgeEllipseCallout">
            <a:avLst>
              <a:gd name="adj1" fmla="val -20310"/>
              <a:gd name="adj2" fmla="val 69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icycle1"/>
          <p:cNvPicPr/>
          <p:nvPr/>
        </p:nvPicPr>
        <p:blipFill>
          <a:blip r:embed="rId2"/>
          <a:stretch/>
        </p:blipFill>
        <p:spPr>
          <a:xfrm>
            <a:off x="5486400" y="3200400"/>
            <a:ext cx="32004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D.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Seth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bicycle1"/>
          <p:cNvPicPr/>
          <p:nvPr/>
        </p:nvPicPr>
        <p:blipFill>
          <a:blip r:embed="rId2"/>
          <a:stretch/>
        </p:blipFill>
        <p:spPr>
          <a:xfrm>
            <a:off x="563868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Do not confuse possessive words with plural words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 words show ownership.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lack’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ollhouse is sm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ral words show more than one.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girl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re friend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breatheblue"/>
          <p:cNvPicPr/>
          <p:nvPr/>
        </p:nvPicPr>
        <p:blipFill>
          <a:blip r:embed="rId2"/>
          <a:stretch/>
        </p:blipFill>
        <p:spPr>
          <a:xfrm>
            <a:off x="7924680" y="304920"/>
            <a:ext cx="857520" cy="81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own"/>
          <p:cNvPicPr/>
          <p:nvPr/>
        </p:nvPicPr>
        <p:blipFill>
          <a:blip r:embed="rId3"/>
          <a:stretch/>
        </p:blipFill>
        <p:spPr>
          <a:xfrm>
            <a:off x="7926480" y="2438280"/>
            <a:ext cx="12175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olkkids"/>
          <p:cNvPicPr/>
          <p:nvPr/>
        </p:nvPicPr>
        <p:blipFill>
          <a:blip r:embed="rId4"/>
          <a:stretch/>
        </p:blipFill>
        <p:spPr>
          <a:xfrm>
            <a:off x="5715000" y="5389560"/>
            <a:ext cx="19051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sh can will attract a lot of ____________ if you leave the lid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trashcantoon"/>
          <p:cNvPicPr/>
          <p:nvPr/>
        </p:nvPicPr>
        <p:blipFill>
          <a:blip r:embed="rId2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fly2"/>
          <p:cNvPicPr/>
          <p:nvPr/>
        </p:nvPicPr>
        <p:blipFill>
          <a:blip r:embed="rId3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sh can will attract a lot of ____________ if you leave the lid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e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trashcantoon"/>
          <p:cNvPicPr/>
          <p:nvPr/>
        </p:nvPicPr>
        <p:blipFill>
          <a:blip r:embed="rId2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fly2"/>
          <p:cNvPicPr/>
          <p:nvPr/>
        </p:nvPicPr>
        <p:blipFill>
          <a:blip r:embed="rId3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fly2"/>
          <p:cNvPicPr/>
          <p:nvPr/>
        </p:nvPicPr>
        <p:blipFill>
          <a:blip r:embed="rId4"/>
          <a:stretch/>
        </p:blipFill>
        <p:spPr>
          <a:xfrm>
            <a:off x="5719680" y="2895480"/>
            <a:ext cx="757440" cy="71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fly2"/>
          <p:cNvPicPr/>
          <p:nvPr/>
        </p:nvPicPr>
        <p:blipFill>
          <a:blip r:embed="rId5"/>
          <a:stretch/>
        </p:blipFill>
        <p:spPr>
          <a:xfrm>
            <a:off x="7467480" y="3200400"/>
            <a:ext cx="685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tomato"/>
          <p:cNvPicPr/>
          <p:nvPr/>
        </p:nvPicPr>
        <p:blipFill>
          <a:blip r:embed="rId2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omato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tomato"/>
          <p:cNvPicPr/>
          <p:nvPr/>
        </p:nvPicPr>
        <p:blipFill>
          <a:blip r:embed="rId2"/>
          <a:stretch/>
        </p:blipFill>
        <p:spPr>
          <a:xfrm>
            <a:off x="624852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232" name="Picture 5" descr="Prairdog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wolf1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lizard-yellow"/>
            <p:cNvPicPr/>
            <p:nvPr/>
          </p:nvPicPr>
          <p:blipFill>
            <a:blip r:embed="rId4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airie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ng, bringing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828800" y="36576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238" name="Picture 5" descr="Prairdog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wolf1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" descr="lizard-yellow"/>
            <p:cNvPicPr/>
            <p:nvPr/>
          </p:nvPicPr>
          <p:blipFill>
            <a:blip r:embed="rId4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OL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girl3"/>
          <p:cNvPicPr/>
          <p:nvPr/>
        </p:nvPicPr>
        <p:blipFill>
          <a:blip r:embed="rId2"/>
          <a:srcRect l="0" t="0" r="7409" b="0"/>
          <a:stretch/>
        </p:blipFill>
        <p:spPr>
          <a:xfrm>
            <a:off x="6172200" y="41148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IG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44400" y="190512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hamster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amsters"/>
          <p:cNvPicPr/>
          <p:nvPr/>
        </p:nvPicPr>
        <p:blipFill>
          <a:blip r:embed="rId2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MAREX2A"/>
          <p:cNvPicPr/>
          <p:nvPr/>
        </p:nvPicPr>
        <p:blipFill>
          <a:blip r:embed="rId3"/>
          <a:stretch/>
        </p:blipFill>
        <p:spPr>
          <a:xfrm>
            <a:off x="7478640" y="0"/>
            <a:ext cx="1665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suitcase"/>
          <p:cNvPicPr/>
          <p:nvPr/>
        </p:nvPicPr>
        <p:blipFill>
          <a:blip r:embed="rId2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sister'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suitcase"/>
          <p:cNvPicPr/>
          <p:nvPr/>
        </p:nvPicPr>
        <p:blipFill>
          <a:blip r:embed="rId2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oa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borrowed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sweater"/>
          <p:cNvPicPr/>
          <p:nvPr/>
        </p:nvPicPr>
        <p:blipFill>
          <a:blip r:embed="rId2"/>
          <a:stretch/>
        </p:blipFill>
        <p:spPr>
          <a:xfrm>
            <a:off x="5715000" y="2971800"/>
            <a:ext cx="30193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borrowe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Jane'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Untitled-1"/>
          <p:cNvPicPr/>
          <p:nvPr/>
        </p:nvPicPr>
        <p:blipFill>
          <a:blip r:embed="rId2"/>
          <a:stretch/>
        </p:blipFill>
        <p:spPr>
          <a:xfrm>
            <a:off x="4114800" y="4191120"/>
            <a:ext cx="3495600" cy="23828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5"/>
          <p:cNvSpPr/>
          <p:nvPr/>
        </p:nvSpPr>
        <p:spPr>
          <a:xfrm>
            <a:off x="5029200" y="2286000"/>
            <a:ext cx="4114800" cy="1905120"/>
          </a:xfrm>
          <a:prstGeom prst="wedgeEllipseCallout">
            <a:avLst>
              <a:gd name="adj1" fmla="val -13273"/>
              <a:gd name="adj2" fmla="val 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483880" y="2666880"/>
            <a:ext cx="33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Jan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my sw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more practice?  Try the button bel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lickheren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4267080"/>
            <a:ext cx="2762280" cy="1219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think-monkey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705720" y="3124080"/>
            <a:ext cx="2027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jungle2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nob, lock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l, everyone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905120" y="380988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, hour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90512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Arial"/>
              </a:rPr>
              <a:t>High-Frequency Word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bove, in front, __________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28800" y="3886200"/>
            <a:ext cx="7842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hind, brought, door, everybody, minute, promise, sor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23:35:43Z</dcterms:created>
  <dc:creator>Lauderdale County Schools</dc:creator>
  <dc:description/>
  <dc:language>en-US</dc:language>
  <cp:lastModifiedBy>teacher</cp:lastModifiedBy>
  <dcterms:modified xsi:type="dcterms:W3CDTF">2010-10-14T20:13:19Z</dcterms:modified>
  <cp:revision>9</cp:revision>
  <dc:subject/>
  <dc:title>A Turkey for Thanksgiving</dc:title>
</cp:coreProperties>
</file>